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0E93-4DD2-474D-96D9-6DC635BB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958-E241-486A-9931-E7CD983B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BEBA-7AE9-44D9-BDA0-B6863796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82F6-FEE5-4E24-95CB-EF0E2022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D38F-2119-40E7-9B63-AB8C75CF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2E7-FC35-4DCA-BAF9-6E2C0FA5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9FE-7A3A-4E37-92E3-86D1340C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9313-ED5D-4FDB-B8DD-DB1B9F23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A9B-08EE-4DA0-99CA-7BE75E8E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24B-BE82-4B13-AE16-03DE318C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1C4-4ADD-4F00-93AC-85D6FE55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AD67-0F4C-4FB3-A20B-614D8133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28E8-819A-4BC1-B640-8701E3F953D2}" type="slidenum">
              <a:rPr b="0" lang="da-D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Wide Lat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pid=174995&amp;id=1809975956&amp;op=1&amp;view=global&amp;subj=157058091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539640" y="0"/>
            <a:ext cx="8604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anna Due Anderse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10" descr="14760_1140906854109_1570580913_30306526_6531908_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2060640"/>
            <a:ext cx="1520640" cy="2131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2"/>
          <p:cNvSpPr/>
          <p:nvPr/>
        </p:nvSpPr>
        <p:spPr>
          <a:xfrm>
            <a:off x="1332000" y="2201760"/>
            <a:ext cx="4680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ello my name is Nann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 am in class 7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 have a mother, a father and two brother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y three best friends named Emilie, Freja and Rikk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my spare time I go to film school youth, sailing and I am a teacher of dram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 have two turtles, named Speedy and Mini. </a:t>
            </a:r>
            <a:endParaRPr b="0" lang="en-US" sz="24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Wide Lat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9:09:11Z</dcterms:created>
  <dc:creator>02a13</dc:creator>
  <dc:description/>
  <dc:language>en-US</dc:language>
  <cp:lastModifiedBy>02a13</cp:lastModifiedBy>
  <dcterms:modified xsi:type="dcterms:W3CDTF">2010-03-02T08:46:48Z</dcterms:modified>
  <cp:revision>2</cp:revision>
  <dc:subject/>
  <dc:title>Dias nummer 1</dc:title>
</cp:coreProperties>
</file>